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9C0-5F2A-48B4-847F-206BAEBD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F43-55C1-4E5E-AE09-B286DB2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A28-649B-4CEB-8F35-C5E3DE83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53F-D52C-4D4A-9562-B6030798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472-FB4D-4789-AB74-7E2F43AA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27F-EA70-4969-8996-D50BB84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ECF-CED0-45E4-A97F-ED7C499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FD4-0224-4577-9563-90B4655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8D0-AE18-46EE-8D2D-E739E6E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336-056D-4E08-BFE5-9B5B121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222-06D0-4CA6-8587-34CE004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132-D8DB-44F9-A768-F40EBD0C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50D-E77B-4BD4-8713-6AE154903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1679400" y="0"/>
            <a:ext cx="640368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740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صمتِ الكونِ أدعو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عمق وجودي أشد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ُسكُن في قلبي وروحي</a:t>
            </a:r>
            <a:r>
              <a:rPr b="1" lang="ar-SA" sz="3200" spc="-1" strike="noStrike">
                <a:solidFill>
                  <a:srgbClr val="6600cc"/>
                </a:solidFill>
                <a:latin typeface="Simplified Arabic"/>
                <a:ea typeface="Times New Roman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ني سلا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إقبلني طِفلا في سما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 عينيَّ بِسَن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ا أستحقُّ الغُفران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كن أرجو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من عَرشِكَ تحنو 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نفسي تمحو آلامي ويأ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تملأني حبًّا يا رب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يكفيني سلام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653" descr=""/>
          <p:cNvPicPr/>
          <p:nvPr/>
        </p:nvPicPr>
        <p:blipFill>
          <a:blip r:embed="rId1"/>
          <a:stretch/>
        </p:blipFill>
        <p:spPr>
          <a:xfrm>
            <a:off x="0" y="0"/>
            <a:ext cx="6188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52280"/>
            <a:ext cx="315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نا كلي إي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لكَ فيَّ وج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لِعرشِ النِّعَم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لقُدسِ الأقداسِ أت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5908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236232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آمنتَ دوماً بكياني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ِرُغمِ قلَّةِ إيمان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ِعَينِ الآبِ ترعان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غمُرُني حُبّ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كتَ عمري وآما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شْبَعتَ خيراً أي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فرتَ كلَّ آث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سِرتُ مُلك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ليك أرفَعُ تهالي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َ أفراحي وتسابيح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ُفرِحُ قلْبَكَ أناشيدي وأُعلِنُ مَجدَك</a:t>
            </a:r>
            <a:r>
              <a:rPr b="0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5:16Z</dcterms:created>
  <dc:creator>USER</dc:creator>
  <dc:description/>
  <dc:language>en-US</dc:language>
  <cp:lastModifiedBy>USER</cp:lastModifiedBy>
  <dcterms:modified xsi:type="dcterms:W3CDTF">2002-11-13T14:21:55Z</dcterms:modified>
  <cp:revision>1</cp:revision>
  <dc:subject/>
  <dc:title>PowerPoint Presentation</dc:title>
</cp:coreProperties>
</file>